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89B-5A14-43CB-AF07-9204DB28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F30-88FE-4991-8BF6-F871CABB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482-0446-4B8F-BF24-C81596D0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3C0E-53D5-42FF-9B81-37FA04FA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22DE-F668-46FC-BD33-DF7D6146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AD4B-4956-4452-85EE-4F9B6220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1EE7-1CC6-46BB-97F9-B52FCE83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E875-F7DD-46A0-96FE-25CA44F2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3298-F398-4942-9FBF-2DFF7E13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7F65-899A-4B9E-851C-768B8835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A2E6-7388-4E11-B065-30E91A94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4AC-FC94-4161-95D6-93FDFDCD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3669-FC1C-4A47-A1CE-6752D950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342A-4336-4405-83A9-130FC5B5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36CF-81A2-44AC-84A0-8CBC3DCE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468A-2D8E-4B37-855F-F7B9FA15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3625-6EEF-4A91-AC7E-3A0922B9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578E3-ED5C-41FE-9E42-76AC0C4F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B22B2-07D9-457E-83EB-C7269D52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03092-61DD-460B-9C79-ACF738B9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C76D5-CCFF-4308-8AC2-545159CD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7C39B-4661-4223-8714-A6856317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7DC-D6B7-4E64-A749-3DBC6157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2B96D-1903-4366-8FA1-525D0B81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A1AA0-5E1F-4AE4-B3BD-62314E77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3DDE0-2369-4BB5-8456-5CD8E517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2E20B-CCC4-4A47-B043-C6FD4B2F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BBF96-DE41-4D3C-A250-8786150E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68C4B-404D-4404-B816-1B55F07E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BBE93-500B-4BB7-9F27-90894BBD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3502E-E5A1-41A8-AD41-0E8ACC68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35AD0-D92E-485D-A158-24921979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BF4D6-D003-4E34-9868-1C2199E3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C66-AF48-4EA9-A1F6-412A8064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4AD7C-CBD6-4E88-80F8-D781DC03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0AA2C-9DC2-4D24-B569-BF296D1D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17263-0243-4C5B-BB41-36E0488B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20F41-E30C-450D-9B42-17B9D1FC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535AF-40CB-4017-92EC-9A5DF712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82F6E-25BA-4EC4-9F04-95B8235C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A0FF7-D2F9-4130-B7C6-61D52237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7CF9B-22B6-47E3-880C-50E106DB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B6B7D-9D4C-4274-AC2C-0D947F59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808A7-88AD-4C84-B82A-4E8FE1C7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810C-F499-421D-A43F-F32089D9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161A9-EED3-4A1B-8F5D-45E22E30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61211-2B71-4EC4-81F1-09211043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DB315-D247-4DA5-AFE5-7B939920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79D07-C4F8-4A9E-BECF-12E023CF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98B7E-9FC6-4F35-ADDD-43948D80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55E2A-9DBE-43BB-85B7-E4468FF4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47501-AADF-4C05-BC7E-17B740BF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8CA46-1AAC-4733-98FC-A6303483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102E5-EB95-4F11-A9B3-B4010C0D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DF6FB-804F-4BCD-8A75-30FBF23B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C2B9-DA13-4C35-8417-0AC048EC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9B746-34B3-4945-A4A6-A73FB1F0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AD4B8-E9AB-4A57-9DDF-FEE5CF4E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55ECD-4488-413E-AC28-60B1D68E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BC426-BAD0-41D8-8C92-59B8070A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BC422-DF3D-406C-9ED8-46FC65CE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D693A-C20B-4433-B5E0-42481054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650CF-DB2F-4CF0-A4B8-2A07F182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3A648-E636-4424-BCBD-9B5CE29E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C2287-D986-42B7-8FB8-9C22EB35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F5DDD-1800-4DB0-940E-BF951F8A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473-8002-4A4F-B1AD-C93EF2A0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447C1-1379-49CB-8DD0-2E0943AD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9939D-7E7E-4D32-AB63-0A509F42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A7B60-3DFA-408C-B79E-F6328B53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34DB9-E631-49D5-A4A8-899B5B6C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D0440-C60F-415C-825E-30319CCF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AA62E-219F-4C56-BFCC-8B4C3F8F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321A1-AC93-484A-9A2A-FA149718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64A17-8791-440F-94E8-F652D715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CE050-3A40-4381-AE03-F157B5A4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944B1-B830-43FC-AD99-80FFE238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6EF1-D263-4D72-9433-DDA55AA7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A0CD6-13EF-4F5D-9ED3-70ABEA29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F928F-65AC-4C8D-A7CE-89CD4ECA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D0648-DB42-46B4-A5FF-7E8C4740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E8971-C1FE-4F06-B038-512D878E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D6518-DCB0-4890-8FBC-194AD4D1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D5A-A37C-4AAE-94C6-E8F3D46E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056FC-09D8-4E18-915D-5DC6581C0545}" type="datetime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2026 metų liepos mėnesio 31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E59B3-6C48-46AA-8E20-4BD4C501C5E4}" type="slidenum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8163D-E2A9-4CEC-B4EC-D502F2A75B37}" type="datetime">
              <a:rPr b="0" lang="lt-LT" sz="1200" spc="-1" strike="noStrike">
                <a:solidFill>
                  <a:srgbClr val="ffffff"/>
                </a:solidFill>
                <a:latin typeface="Times New Roman"/>
              </a:rPr>
              <a:t>2026 metų liepos mėnesio 31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9F214-121C-49FE-B644-4E63CC66CC17}" type="slidenum">
              <a:rPr b="0" lang="lt-L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35335-62F4-4983-BD5B-52284CC2A0B9}" type="datetime">
              <a:rPr b="0" lang="lt-LT" sz="1200" spc="-1" strike="noStrike">
                <a:solidFill>
                  <a:srgbClr val="ffffff"/>
                </a:solidFill>
                <a:latin typeface="Times New Roman"/>
              </a:rPr>
              <a:t>2026 metų liepos mėnesio 31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ADD6C-F7C1-4EB3-9609-AD04F4A48D47}" type="slidenum">
              <a:rPr b="0" lang="lt-L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370F8-3BCA-4C09-9EEE-FE00CEC8D71F}" type="datetime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2026 metų liepos mėnesio 31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81CFE-C8A2-4854-B0C1-5CCCCB88C001}" type="slidenum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AB6E3-B250-4E46-B8ED-113DC0FA0D04}" type="datetime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2026 metų liepos mėnesio 31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F52D4-4F51-47D4-9D5E-CA7DAE4FC768}" type="slidenum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6D04E-6622-4C49-8054-D4C2A6B9B2F2}" type="datetime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2026 metų liepos mėnesio 31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CD214-0282-409A-8ABC-325F5FB8B3F6}" type="slidenum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AD32C-FDE4-4036-A4A4-85B21267C375}" type="datetime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2026 metų liepos mėnesio 31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956A9-684B-41E4-998C-E67FC81641B7}" type="slidenum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2279520"/>
            <a:ext cx="80769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6868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ino montažo technikos virtuoza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Tarptautinio pripažinimo sulaukė sukurtas filmas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Šarvuotis </a:t>
            </a:r>
            <a:r>
              <a:rPr b="0" i="1" lang="cs-CZ" sz="3200" spc="-1" strike="noStrike">
                <a:solidFill>
                  <a:srgbClr val="000000"/>
                </a:solidFill>
                <a:latin typeface="Corbel"/>
              </a:rPr>
              <a:t>„Potiomkinas“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(1925)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Tai -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1905–1907 metų darbininkų, valstiečių ir karių revoliucijos 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ranizacija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rieš caro valdžią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Masinė Odesos laiptų scena iki šiol laikoma viena įspūdingiausių kino istorijoje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6868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6840" y="1774800"/>
            <a:ext cx="84358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kie veikėjai vaidina šioje scenoj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aip vaizduojamas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aukos – agresoriaus 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nfliktas? Kurią pusę palaikytumėte Jū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aip filmo ištraukoje panaudojama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metonimija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Prisiminkite vėlesnį istorinį laikotarpį –  bolševikų revoliuciją, Sovietų Sąjungos ideologiją: kodėl šį filmą teigiamai priėmė Sovietų Sąjungos valdži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6868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Viena iš Trečiojo Reicho veikėjų ir artimos Adolfo Hitlerio aplinkos žmoni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Garsiausiu jos kūriniu laikomas filmas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Valios triumfas 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(1935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Adolfas Hitleris buvo ne tik filmo rėmėjas, bet ir neoficialus vykdomasis prodiuseri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Filmas iki šių dienų laikomas vienu įspūdingiausių propagandinių film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6840" y="1774800"/>
            <a:ext cx="84358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as žiūrovui atskleidžiama šio filmo vaizdiniai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kias Reicho kariuomenės ypatybes norima perteikti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kio tikslo siekiama šiuo filmu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kiai auditorijai skiriamas šis kina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507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Pažiūrėkite V. Žalakevičiaus filmo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Niekas nenorėjo mirti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(1965) ištrauką: 34:00-43:58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Pagalvokite, kodėl šio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filmo cenzoriai Lietuvoje nepraleido kaip „ideologiškai neteisingo“, tačiau cenzoriai Maskvoje ne tik leido jį rodyti, bet ir skyrė autoriui apdovanojimų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r šis filmas, jūsų nuomone, palaiko sovietinę ideologiją? Kodėl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3" descr=""/>
          <p:cNvPicPr/>
          <p:nvPr/>
        </p:nvPicPr>
        <p:blipFill>
          <a:blip r:embed="rId1"/>
          <a:stretch/>
        </p:blipFill>
        <p:spPr>
          <a:xfrm>
            <a:off x="542880" y="695160"/>
            <a:ext cx="845496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Visa klasė aptarkit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Corbel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r menui reikalinga ideologinė funkcija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Kodėl kinas suvokiamas kaip geriausias kanalas ideologijai skleisti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ekvienai grupei p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kiriama (arba duodama ištraukti ant lapelių parašytą) po vieną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žodį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–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dėją, pvz.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orbel"/>
              </a:rPr>
              <a:t>jėga, tauta, pareiga, vienybė, laimė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ir pan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Grupės sugalvoja bent po tris vaizdinius, kuriais atskleistų savo idėją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ir juos pristato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t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ų grupių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mokiniai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turi atspėti tą įsivaizduojamą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orbel"/>
              </a:rPr>
              <a:t>žodį</a:t>
            </a:r>
            <a:r>
              <a:rPr b="0" lang="lt-LT" sz="3200" spc="-1" strike="noStrike" u="sng">
                <a:solidFill>
                  <a:srgbClr val="000000"/>
                </a:solidFill>
                <a:uFillTx/>
                <a:latin typeface="Corbel"/>
              </a:rPr>
              <a:t> – idėją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744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audodamiesi fotoaparatu ar mobiliuoju telefonu nufilmuo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kite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trumpą v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aizdo filmuką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, kuris atspindėtų j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ūsų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grupei p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skirtą (ištraukt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ame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lapelyje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 parašytą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) </a:t>
            </a: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Corbel"/>
              </a:rPr>
              <a:t>žodį</a:t>
            </a:r>
            <a:r>
              <a:rPr b="0" i="1" lang="lt-LT" sz="3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Corbel"/>
              </a:rPr>
              <a:t>–</a:t>
            </a:r>
            <a:r>
              <a:rPr b="0" i="1" lang="lt-LT" sz="3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Corbel"/>
              </a:rPr>
              <a:t>idėją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Grupės nariai susitaria, koks vaizdas būtų įdomiausias, kuris atskleistų tą idėją ir pademosntruoja su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kurtą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filmuką kitiems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Visi kiti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taip pat bando atspėti tą įsivaizduojamą žodį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 – simbolį.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Apibendrinama, kokia vaizdinių simbolinė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–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idėjinė prasmė ir emocinis poveikis auditorijai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457200" y="1774800"/>
          <a:ext cx="8229600" cy="4359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ino meno pavyzdžia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deologijos pavyzdžia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736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švada: </a:t>
                      </a:r>
                      <a:r>
                        <a:rPr b="0" i="1" lang="lt-LT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inas ir ideologija susiję / iš dalies susiję / nesusiję, nes...</a:t>
                      </a:r>
                      <a:r>
                        <a:rPr b="0" lang="lt-LT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6" name="Rectangle 1"/>
          <p:cNvSpPr/>
          <p:nvPr/>
        </p:nvSpPr>
        <p:spPr>
          <a:xfrm>
            <a:off x="2274120" y="9036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303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švada: </a:t>
            </a:r>
            <a:r>
              <a:rPr b="0" i="1" lang="lt-L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inas ir ideologija susiję/ iš dalies susiję/ nesusiję, nes...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2274120" y="9036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303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švada: </a:t>
            </a:r>
            <a:r>
              <a:rPr b="0" i="1" lang="lt-L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inas ir ideologija susiję/ iš dalies susiję/ nesusiję, nes...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orbel"/>
              </a:rPr>
              <a:t>Tai klasių, socialinių grupių pažiūrų, idėjų siste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orbel"/>
              </a:rPr>
              <a:t>Atspindys visuomenės santykių, jų socialinių principų pagrindimo teorija, skleidžiama įvairiomis visuomeninės sąmonės formomis (filosofija, politika, teise, menu, religija, žiniasklaida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„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munikacija istorijoje ilgą laiką buvo suvokiama kaip potencijos sukurti ar sugriauti politinę santvarką turinti gali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John Durham Peters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„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Pagrindinis manipuliavimo visuomenės vertybių sistema tikslas yra paveikti individų motyvaciją ir priversti imtis atitinkamų veiksmų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(Denis McQuail).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Kinas – tai m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asiškiausias mena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Dėl v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zualum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: „Geriau vieną kartą pamatyti nei šimtą kartų išgirsti“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ėl paveikumo (estetinio, emocinio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nkreti žmonių grupė: pakeisti jų požiūrį į reiškinius, vertybes, idėja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Visi šalies gyventojai: mobilizuoti, sukurti pasitikėjimą šalimi, geopolitine padėtimi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Priešiškos grupės / valstybės: parodyti galią, įbauginti, sumenkinti kitų pasitikėjim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lt-LT" sz="4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inas ideologiniais, propagandiniais tikslais gali būti naudojamas ne tik totalitarinių režimų, bet ir demokratinėse visuomenėse siekiant keisti visuomenės požiūrį, skiepyti naujas vertyb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*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Ar jums yra buvę taip, kad filmas pakeistų jūsų nusistatymą kieno nors atžvilgiu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Vienas iš holivudinio kino kūrėjų, Jungtinių Amerikos Valstijų socialinis ideologa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Garsiausias kūrinys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Nacijos gimimas 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(1915)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– pirmasis kino istorijoje propagandinis filma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Filmas buvo naudojamas verbuojant naujus kukluksklano* nariu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Filme juodaodžius vaidino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perdažyti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baltaodžiai aktoriai.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457200" y="6126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alibri"/>
              </a:rPr>
              <a:t>*Kukluksklanas – JAV organizacija, pasisakanti už baltųjų rasės viršenybę prieš kitas rases. JAV ši organizacija dažniausiai siejama su judėjimais prieš juodaodžių ras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6868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kios vertybės perteikiamos šioje scenoj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aip kuriamas juodaodžio personažo portreta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kiais kinematografiniais būdais bandoma įtikinti žiūrovą propaguojama ideologij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aip manote, ar šis filmas paveikus šiandie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16:58:57Z</dcterms:created>
  <dc:creator>Egidijus Jurgelionis</dc:creator>
  <dc:description/>
  <dc:language>en-US</dc:language>
  <cp:lastModifiedBy>R</cp:lastModifiedBy>
  <dcterms:modified xsi:type="dcterms:W3CDTF">2016-01-06T19:40:21Z</dcterms:modified>
  <cp:revision>104</cp:revision>
  <dc:subject/>
  <dc:title>Kinas ir ideologija</dc:title>
</cp:coreProperties>
</file>